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2C6-717C-4E52-8CAF-1DF27BF4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A49-B9D7-4A0A-B9B0-DC5FA022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B74-6866-4A89-B939-F7981A5A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1CF-6743-4604-8FD4-D0D7F352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0C00-2F8D-4650-BF1B-487A6CCC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9882-0638-4F6E-800C-4FA4F8C0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0552-B46C-45A6-8CB5-7E691243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290E-C177-40DA-B185-0D4CB257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8990-DE60-46CB-9562-AB9466E2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6E60-BFB1-4F71-95D1-A3A91A80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EBCD-4111-45EE-A43D-8BF6B813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B90-E42F-4185-B94F-7DF20C93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47FE-1F7F-4F20-8A51-8D7D0F18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D17C-5F24-4443-9CC6-4FDD754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602E-E283-463C-8864-3DF24BA7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BBE0-898E-4C0D-87B8-4BEF8217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20BE-2AD2-4D9F-8FFF-40D913AF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C9AD-7CDE-42B8-BCF9-91D72037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9DFE-80C1-4DF9-B581-1DB2468D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C83D3-B35F-40FA-8F41-4E5D6584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B099-0ADE-455A-89E6-D4375EEA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0295-D613-4260-B52E-58FB258F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5E6-E822-4A59-99D9-34E1E057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34774-5598-43F9-89B9-CF97746D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4AAE6-10C7-4F7A-8125-6B6F5345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6C05-7D5F-4460-8A41-68686D84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6E67-319B-4A6E-93CE-EAA6E4CC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283F8-C33F-4843-B143-C7190213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8442-1BF0-4E55-87FF-A6F37850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2748-E8D5-4568-BC3B-E13893D0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2BB85-A888-41A1-981D-157B6944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35EFB-B612-47B1-A958-C83BE2A3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6839D-A10B-42E4-9C37-79D39E6C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C28-5E97-4105-AE1A-E6E320FA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390A7-26A5-4DA5-ABEE-A9B7F254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B9303-77A6-406D-A294-47977920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C376-08A6-473E-A0E6-1502696F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EF029-4299-4833-A65B-12C481D6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B0B01-095C-4255-85C1-519222C9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EFA53-9DED-420D-9146-D189E378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CA3B9-CE07-4600-968B-572606BA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F9BE8-46EE-4EF1-AFF5-A8EA353E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1F839-615E-42C0-AFC1-9BA4AE64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1F1-7C6E-4089-8033-41CCA1A8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AAE-40F0-4FB4-8D19-CBA309E6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AAD-66CB-4184-9667-B46F701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17F-F9B5-4205-9C1B-901BC5CC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59B-A97C-4BA6-8DD7-FFFEC2CF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09ED-06CD-437F-8F10-5431CD494800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F8F9-B236-45F3-91D8-AE8E44D5C785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F248-BD40-46F7-99B1-571F7B603EFD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7843-0B92-400C-ADB2-B2FBC5310637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0371-EFB3-4193-8EB2-5D614139FADE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13E6-476D-40E9-832C-B12DF2FB2F66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D6BA-FE50-46C8-A1EB-534A2566EEAF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BDD9-F259-4879-A673-0F0C82C47A01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5141-627C-4271-A843-E627333B9335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057640" y="3992400"/>
            <a:ext cx="38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Be able to collect like ter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977760" y="3005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explain the process of tidying up express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5057640" y="300528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Understand the term like term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Rectangle 14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5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2000160" y="687240"/>
            <a:ext cx="53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Collecting Like  Ter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FC7D-2F34-4D99-A49A-20BE5CE36D31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7"/>
          <p:cNvSpPr/>
          <p:nvPr/>
        </p:nvSpPr>
        <p:spPr>
          <a:xfrm>
            <a:off x="1729080" y="2104920"/>
            <a:ext cx="6288840" cy="520560"/>
          </a:xfrm>
          <a:prstGeom prst="rect">
            <a:avLst/>
          </a:prstGeom>
          <a:solidFill>
            <a:srgbClr val="6bdbf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CAN ONLY TIDY UP “LIKE TERM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14"/>
          <p:cNvSpPr/>
          <p:nvPr/>
        </p:nvSpPr>
        <p:spPr>
          <a:xfrm>
            <a:off x="1234080" y="289548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, 3 , 5, -6, 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15"/>
          <p:cNvSpPr/>
          <p:nvPr/>
        </p:nvSpPr>
        <p:spPr>
          <a:xfrm>
            <a:off x="3696120" y="2895480"/>
            <a:ext cx="52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re like terms simple num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1336320" y="3822840"/>
            <a:ext cx="16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, -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733200" y="3809880"/>
            <a:ext cx="31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re like terms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1409760" y="461016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-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19"/>
          <p:cNvSpPr/>
          <p:nvPr/>
        </p:nvSpPr>
        <p:spPr>
          <a:xfrm>
            <a:off x="3785400" y="4597560"/>
            <a:ext cx="32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re like terms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2338560" y="5524560"/>
            <a:ext cx="4548960" cy="581400"/>
          </a:xfrm>
          <a:prstGeom prst="rect">
            <a:avLst/>
          </a:prstGeom>
          <a:solidFill>
            <a:srgbClr val="6bdbf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NOT the same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Rectangle 21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2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2000160" y="687240"/>
            <a:ext cx="53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Collecting Like  Ter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75BB-4577-4C19-AC30-C471B776866D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2000160" y="687240"/>
            <a:ext cx="53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Collecting Like  Ter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Box 14"/>
          <p:cNvSpPr/>
          <p:nvPr/>
        </p:nvSpPr>
        <p:spPr>
          <a:xfrm>
            <a:off x="1176840" y="289548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2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2992680" y="2895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16"/>
          <p:cNvSpPr/>
          <p:nvPr/>
        </p:nvSpPr>
        <p:spPr>
          <a:xfrm>
            <a:off x="1211760" y="372888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x – 4y – x – 2y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4102920" y="372600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x – 6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235520" y="456408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x – y + 6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19"/>
          <p:cNvSpPr/>
          <p:nvPr/>
        </p:nvSpPr>
        <p:spPr>
          <a:xfrm>
            <a:off x="4481280" y="455436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0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– x - 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21"/>
          <p:cNvSpPr/>
          <p:nvPr/>
        </p:nvSpPr>
        <p:spPr>
          <a:xfrm>
            <a:off x="1152720" y="19177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23"/>
          <p:cNvSpPr/>
          <p:nvPr/>
        </p:nvSpPr>
        <p:spPr>
          <a:xfrm>
            <a:off x="1172520" y="5397480"/>
            <a:ext cx="33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q – 3q + 6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24"/>
          <p:cNvSpPr/>
          <p:nvPr/>
        </p:nvSpPr>
        <p:spPr>
          <a:xfrm>
            <a:off x="4427280" y="5384880"/>
            <a:ext cx="17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2p</a:t>
            </a:r>
            <a:r>
              <a:rPr b="0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– 4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Rectangle 20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1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0D21-DA76-438F-B5B1-49FA79495A6A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2124000" y="5345280"/>
            <a:ext cx="5626080" cy="9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352600" y="2220840"/>
            <a:ext cx="5195880" cy="3141360"/>
          </a:xfrm>
          <a:prstGeom prst="rect">
            <a:avLst/>
          </a:prstGeom>
          <a:solidFill>
            <a:srgbClr val="0076a3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Now try page 29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Ex 5.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Q5, 6,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Page 30 Challenge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4760" y="132732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tters and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Rectangle 12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2949120" y="71748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llecting like te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17:26Z</dcterms:created>
  <dc:creator>Bernie Lafferty</dc:creator>
  <dc:description/>
  <dc:language>en-US</dc:language>
  <cp:lastModifiedBy>Caroline</cp:lastModifiedBy>
  <dcterms:modified xsi:type="dcterms:W3CDTF">2009-05-25T20:43:30Z</dcterms:modified>
  <cp:revision>72</cp:revision>
  <dc:subject/>
  <dc:title>Slide 1</dc:title>
</cp:coreProperties>
</file>